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08F-B534-4D72-973F-0D133320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370-F8C5-4E10-B1A1-12284E50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DC0-D228-42BC-80C4-A3E35EA3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AC6-DF22-456E-95CC-CC538E08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A314-266D-4935-9916-18E9E0B3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8C7B-1381-4846-A37A-706F20C7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472C-0A76-421D-8763-68A60473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E82D-CFD5-4304-AF92-9058E712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66BA-2D4A-4E21-9FF6-9945E0E4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EC7B-233A-4F66-91AC-02B6A087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F4BF-77C0-4550-ACB3-F89A8939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CAA-CA6C-408C-9F6B-28407415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BB5F-B704-4298-8317-09856A46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7EF3-3C26-4628-8A6B-7FB082E2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AE82-75A2-4A6A-802F-6131A49F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A0CE-AEB8-4CFF-884E-6C3A25AD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D8E8-FC10-4555-AAE2-BA72B758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0EAE3-218A-4B82-B1F6-FEE9C550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DD76A-27FF-4933-B1FF-DF72CD79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B60BC-2A97-4839-92EA-F9C54FFE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4B26-5BB2-41F8-A21D-B98E0656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2513-6F9B-4ACD-85F7-C04C24CC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053-9862-4580-8629-16CA1996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42B03-7EBE-4477-B4A6-5D67F2ED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DB6C-5787-4EB2-81EF-C42F8CD8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FC459-CE3C-4498-B4A2-B330A3EE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9FC6-6B3D-4F73-AC54-FF73D74C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29740-3DC9-4B95-918F-E5BA7523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E1472-CA60-4D00-9A26-334FF53A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1904-3B47-425C-B29C-6759E1BC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C304C-8F6C-44AC-A280-2C9CC6B1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E189E-BE7E-4308-AA99-DBD2F299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A2CF-352A-4058-A2D8-F5435DC2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32D2-11F6-4C21-898D-2F6EB1C6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98834-D2BB-4113-86B7-FA1C1260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C01ED-EF16-43FB-B282-2FF1FBFC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61ABF-FE88-4E1F-8213-8DB2CC47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ADBE8-E238-46D6-A746-E14F903F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06C6B-F152-4C57-8E59-41B3A3EE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B54E5-5A8F-4E68-B2E0-1B783516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015D9-CE25-40C7-91A0-5AF8DF04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B7AE3-C3C1-430E-80A5-B82E4DD8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08D01-A88B-4CFE-B2C6-0C75F426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575A7-897E-4CDD-AB30-6F0AE922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2E1-AF9E-4EC3-B362-2F4F9847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6F225-4238-40C5-A8A0-244C20FA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4F80F-A65F-4CA7-A366-D861DB10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4BBEF-7D96-4BE6-AEA4-CBD882FF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E0FC9-6AF9-4CF5-B3F5-65E897FA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D884E-9CBA-4A78-86E5-DA38016E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F0541-20FB-49EB-AB0B-C7BBCD12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933D5-500C-437A-90A5-D0F130C8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8C5F6-AD44-4A9B-BAB8-D2C7FFB2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EFFCC-D869-4686-8F4A-F08A839B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47C51-E8E7-44D9-B975-23D4AB9E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4EA-F8D5-48BF-BBA8-41DE9752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00707-3F40-45C8-8EAB-71E8A879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FF339-8617-4B02-8D84-F16E3454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8AC1E-BBDB-4D60-8491-AA778F51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F2248-34ED-4727-915A-A8A33C58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8E1EE-DF83-4912-82F1-0EB1EBF5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9FA22-9FE5-45E5-8206-F17FA072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7CA54-983E-45EA-A2C0-090F1D3E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F2223-9AD1-4278-BC1B-C2D20FB0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406F5-40C8-4FFF-9C39-52006375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532AD-444D-42D9-8C14-361DCE43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EE2-7442-4D93-AD0D-DF6E0943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E38EE-00E9-4493-8D65-6D1C1758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046E7-E210-408F-90FE-95FB94B7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3E927-A5E3-497B-834F-AFB5DE11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5FAF6-1E42-4FAF-9A9A-0A17817C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53296-562B-4765-8032-09CDC201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E4F18-1734-499D-9489-2BF7B187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701CE-D1D7-4954-93A2-2BDE6422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C9EA2-BDF7-4F53-A74B-7DAA0D2E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ABF40-52AA-4E72-89AD-67831C94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3F642-30C3-48C6-A2D3-D527CBE8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5A9-4569-4FB8-9BBA-C96D0966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02134-0E8D-4B8C-968A-C6DCB9BE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39839-0D74-4CC6-BBC4-2E482053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13FF9-761A-4E3C-B811-9AA1283B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0F5C3-1202-4B5F-BB96-7918517C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FB422-F6F0-41B3-8E80-61A16382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5BD69-03D6-4683-9FD6-60F45FAF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7B1A3-989D-44DF-986F-321105E1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D4303-2B81-45BF-8D0D-BE73F9E7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10361-A52C-4F50-A340-44106828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38E64-92F6-427C-9D7B-AF834C0C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C17-6759-4638-8250-B85F580B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E8495-1BCD-40C6-AA8A-3C1017AA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A2FD6-848A-47AB-A49C-E0553E1F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22437-DBB0-47FD-9B91-99EC1D17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CC9D0-B999-4F5E-810D-BB7014FB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8BBD5-2665-4381-A2E3-666417AF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6FD9B-8867-47DC-83A7-0EC370BA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BB380-98FB-43D1-B2B1-DDFF64BC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B978-B615-49B6-85DC-2E8D57E503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30A0-8C65-4417-9114-ED2779859FB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E40B-4E0B-42B4-B7D7-5648C2D09EE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EEEE-4CA5-4B4F-B2BC-A04B1CA5010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DF52-EA2C-4042-9B88-B3E06B4233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7A05-38EE-4935-B04B-C6F190AEDE1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1FAD-1429-4876-9129-8185D42BC2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FF38-4769-4C3F-9A21-FE0420EF884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78920" cy="18525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905200" y="3505320"/>
            <a:ext cx="574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ца 10 класса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йник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 – учитель физики Львовский М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мназия № 201, г.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99"/>
                </a:solidFill>
                <a:latin typeface="Lucida Sans Unicode"/>
              </a:rPr>
              <a:t>Сила взаимного притяжения двух тел прямо пропорциональна произведению масс этих тел и обратно пропорциональна квадрату расстояния между ни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228600" y="-228600"/>
            <a:ext cx="8559720" cy="1755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3886200" y="4495680"/>
            <a:ext cx="4486320" cy="16002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5"/>
          <p:cNvSpPr/>
          <p:nvPr/>
        </p:nvSpPr>
        <p:spPr>
          <a:xfrm>
            <a:off x="3809880" y="4419720"/>
            <a:ext cx="4648320" cy="1676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ела являются материальными точкам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ела имеют форму шар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дно из тел – шар большого радиуса, другое – материальная точ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грав взаимодействие"/>
          <p:cNvPicPr/>
          <p:nvPr/>
        </p:nvPicPr>
        <p:blipFill>
          <a:blip r:embed="rId2"/>
          <a:srcRect l="10133" t="61950" r="0" b="4231"/>
          <a:stretch/>
        </p:blipFill>
        <p:spPr>
          <a:xfrm>
            <a:off x="3657600" y="3809880"/>
            <a:ext cx="5014800" cy="25146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5"/>
          <p:cNvSpPr/>
          <p:nvPr/>
        </p:nvSpPr>
        <p:spPr>
          <a:xfrm>
            <a:off x="3657600" y="3733920"/>
            <a:ext cx="5029200" cy="259056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1258920" y="2495520"/>
            <a:ext cx="6627960" cy="1866960"/>
          </a:xfrm>
          <a:prstGeom prst="rect">
            <a:avLst/>
          </a:prstGeom>
          <a:ln w="0">
            <a:noFill/>
          </a:ln>
        </p:spPr>
      </p:pic>
      <p:pic>
        <p:nvPicPr>
          <p:cNvPr id="381" name="Rectangle 4" descr=""/>
          <p:cNvPicPr/>
          <p:nvPr/>
        </p:nvPicPr>
        <p:blipFill>
          <a:blip r:embed="rId2"/>
          <a:stretch/>
        </p:blipFill>
        <p:spPr>
          <a:xfrm>
            <a:off x="176040" y="268200"/>
            <a:ext cx="851724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7"/>
          <p:cNvSpPr/>
          <p:nvPr/>
        </p:nvSpPr>
        <p:spPr>
          <a:xfrm>
            <a:off x="1295280" y="2514600"/>
            <a:ext cx="6553440" cy="1828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876920" y="144792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acbe0"/>
                </a:solidFill>
                <a:latin typeface="Lucida Sans Unicode"/>
              </a:rPr>
              <a:t>Генри Кавендиш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acbe0"/>
                </a:solidFill>
                <a:latin typeface="Lucida Sans Unicode"/>
              </a:rPr>
              <a:t>1789 го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3352680" y="324648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3887640" cy="485136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388" name="Rectangle 9"/>
          <p:cNvSpPr/>
          <p:nvPr/>
        </p:nvSpPr>
        <p:spPr>
          <a:xfrm>
            <a:off x="304920" y="1600200"/>
            <a:ext cx="38862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p0039"/>
          <p:cNvPicPr/>
          <p:nvPr/>
        </p:nvPicPr>
        <p:blipFill>
          <a:blip r:embed="rId1"/>
          <a:srcRect l="5563" t="23608" r="3516" b="40278"/>
          <a:stretch/>
        </p:blipFill>
        <p:spPr>
          <a:xfrm>
            <a:off x="380880" y="1981080"/>
            <a:ext cx="8382240" cy="444816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5" descr=""/>
          <p:cNvPicPr/>
          <p:nvPr/>
        </p:nvPicPr>
        <p:blipFill>
          <a:blip r:embed="rId2"/>
          <a:stretch/>
        </p:blipFill>
        <p:spPr>
          <a:xfrm>
            <a:off x="133200" y="-109440"/>
            <a:ext cx="8560080" cy="15364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6"/>
          <p:cNvSpPr/>
          <p:nvPr/>
        </p:nvSpPr>
        <p:spPr>
          <a:xfrm>
            <a:off x="380880" y="1981080"/>
            <a:ext cx="8382240" cy="441972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450720" y="85680"/>
            <a:ext cx="8242560" cy="18288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rcRect l="0" t="4286" r="2851" b="0"/>
          <a:stretch/>
        </p:blipFill>
        <p:spPr>
          <a:xfrm>
            <a:off x="1905120" y="1523880"/>
            <a:ext cx="5181480" cy="51055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5"/>
          <p:cNvSpPr/>
          <p:nvPr/>
        </p:nvSpPr>
        <p:spPr>
          <a:xfrm>
            <a:off x="1981080" y="1523880"/>
            <a:ext cx="5029200" cy="5029200"/>
          </a:xfrm>
          <a:prstGeom prst="rect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circl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5-05T00:19:5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